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9946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4"/>
          </p:nvPr>
        </p:nvSpPr>
        <p:spPr>
          <a:xfrm>
            <a:off x="5633640" y="-36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5"/>
          </p:nvPr>
        </p:nvSpPr>
        <p:spPr>
          <a:xfrm>
            <a:off x="0" y="6513120"/>
            <a:ext cx="43099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6"/>
          </p:nvPr>
        </p:nvSpPr>
        <p:spPr>
          <a:xfrm>
            <a:off x="5633640" y="6513120"/>
            <a:ext cx="43102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1FC7-7BCE-40B3-BF88-48A7EDD6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から、だじゃ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戦を始めます。このゲームはサッカー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ように２つのチーム（１チーム２～３名）に分かれて行います。二手に分かれて先攻・後攻を決めてください。（決め方はジャンケンで可、先攻・後攻チームで向かい合って座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スライド番号プレースホルダー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7177-8EE9-4968-AE50-8ADB888A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、本番を始めましょ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程のサンプルは「くだもの」がお題でしたが、本番は「おさかな」で行きたいと思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24C7-2EB9-4CDA-81D9-341F53A83349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それでは行きましょう！お題が出たらすぐに言い始めてもらっ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は、残り５秒になったらカウントダウンが始まるので、それを目安に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は、先攻チーム１本目のお題はこちらで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といってスライドを送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1A69-E19C-4308-B33C-CE7D3151898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審判は数をカウント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０秒が経過すると、スライドは自動的に先に進み、４５秒で終了（サッカーボールのスライド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以下、都度シートにスコアを記入しながら先攻・後攻の各５本を繰り返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6A80-28B5-4108-873D-28A30BCC9A7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4C4A-84AF-446A-91C9-A157C1CE073E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6F8B-422B-46C1-98AA-C5EBDD3CB89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8E26-0354-45F4-A686-0C639E6A6CA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6F17-02B4-4080-9555-789A9229F86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7557-3423-4D08-9966-A3C02F459CEE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94E-68CE-4FF6-89A4-F62B6AF974BF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1C5E-282B-4233-B4C1-670C57537FA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もう一度、ルールを確認しましょ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１～６を準備に読み上げ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何か質問はあります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スライド番号プレースホルダー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4CDD-E584-42B3-8886-F645EEF98A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C781-58E1-41D8-9E73-CFF13F65BBD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55D7-8DE2-4902-BF88-2D6CFC8C04E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7BC1-8AD0-49F7-B561-29B125B9C63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B8A8-92E0-42FC-9C0E-0DBA6CA40DD5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E1B8-50CE-476B-91EE-30670AE65C6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51BC-F1D2-4C06-B157-7284472A021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B951-1461-4E78-9AC7-5B6D1FC22A5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18D6-D6E3-4CC1-823D-B7125CA1E64B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641-B89C-4963-B370-2E356CECACCB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8F46-0468-4B80-9356-1CF7480EDEE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同様の手順で２～５本目（計５本）を交互に繰り返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勝敗はＰＫの成功数（「○」の数）で決ま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○」が同数の場合は、ボーナスポイントの得点差により勝敗が決めるので、できるだけたくさんポイントを稼いでおいた方が良い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スライド番号プレースホルダー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547-37C3-40B1-B8EB-188BC4498B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7115-C2DB-4C7D-A623-6F23B17BDFD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3516-2681-4140-8DD0-052BB769E2A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1262-2800-4112-A5F0-B92FDB5CF5FB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363D-9735-4919-957D-CB34559F17B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F3AF-938B-4CCD-9C89-C553B7A69B7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706-5CE5-481D-93D9-B4E7E0256AAE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874C-1629-47B7-A2A2-408ADD24D81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E0F-EE7F-48DD-AD4B-6AABE914289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1C9F-F9A1-4B44-A308-15274AFC6E6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F93-18BC-42E7-8938-9566BFDE07D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スライド番号プレースホルダー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0D50-033B-472F-97FB-BD7C4C3FEB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877E-47E0-4CB4-A5C5-709C86FB382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49E4-92A7-41A2-B1C0-304C73F6197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A7D2-1FA0-4A5D-B6FA-D3B7FEADE05B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815B-E6A9-4682-8A02-0BE979FD5EB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371-EA8A-4F86-AECD-F6ACF745783E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EEFA-75A7-450C-A98F-F285B6770C9A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4886-C3E5-4A07-B055-52CBCCA1C1F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4CC-6561-470D-A5C3-FA15C23B5A8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66D-A50A-4DF0-8EFE-25ADFBC3424C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845FA-C56C-4F36-8FF3-FE3CFDDE0B3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ずは、進め方のサンプルを見せ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547-40FE-4EF2-AFC1-E9C34A20B27F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9C4-8497-4C8E-990F-956C1EE1361F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B799-DAC0-4DDF-9E2C-0181E0407124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85AC-70F2-44CD-904E-74109988E08A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219A-13D3-4048-951D-B7E162A3136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A13A-FA9C-4364-B2B1-DB4D6E767FAF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B881-109B-437A-B697-8C8BC022AB5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7221-90D2-4892-855A-F0134A9A331A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750-560D-4808-BE0C-950EEDCFE8F7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2BF9-5DD4-48FE-82BD-0BD510D56299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3EF-B3F2-4947-937F-8BCB29BE59D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ずは先攻チームからお題が出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9FDA-82FD-4114-9835-710A0A967C5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1F0E-55AF-4D46-9827-DF54A6332E1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9CFE-EE9B-4D02-A9F7-879656429CA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A16B-391C-4CDC-AC7F-3A96FC30FFF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73F5-03AF-443E-A411-E0A4BCEA39C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7C81-5EA5-466B-AF28-0AC37450A64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D2C8-FCF0-4C8C-B11E-D9592E192D0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52C4-D3C9-4624-8D51-76CBEDEC6FE0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2AD6-8BA6-4376-8B66-7ACA27E45F6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44BE-0149-46F9-8C2C-81ADA5B3DD3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FE67-5F31-4E3B-9D94-7918BABD2B0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、先攻チームの１本目に「もも」というお題が出た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これに対し、先攻チームの全員が制限時間（４５秒）以内にだじゃれを言っ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順不同で計３ネタ、２名チームはどちらか一人が２回言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回答例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モモみたいな太もも」 （同音異義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モモンガの好物は桃」 （言葉を付け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ビーチで桃を食べる」 （英語化＆濁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このもも、ピチピチだね！」 （英語化＆音変換＆同音異義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制限時間以内にチームの全員がだじゃれを言えたらＰＫ成功です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ただし、同じ意味のだじゃれを２回言うの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⇒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審判は、別紙のスコアシートに「○」を書き入れる。言えなかった場合は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を記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さらに時間内にチーム合計で４ネタ以上発せた場合は、３ネタの超過分に対してボーナスポイントが加算され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⇒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審判は、スコアシートのボーナス欄にボーナスポイント分を記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AEAF-D91D-4213-BB4F-698E7FADBFA9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FF63-495F-4635-8A9C-9DD977BBA64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FD07-FF97-4445-B2C6-479DD79EDA77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A512-D8E6-411F-9182-00D175FE5DB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EF24-A26C-4716-8880-2110460DC43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FE1A-A6B8-406F-81B2-B573C37ED7CF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965A-8B64-41A5-804F-2C03C243EC29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ED25-3813-44F8-9C4D-49070D9BC037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EB30-821C-4636-AFE0-D51587A99487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1F83-E4A8-4CF5-8809-C2BC286119A5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527D-4D5B-41E3-91CD-C5CA8570F2C0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続けて、後攻チームの１本目の攻撃に移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D1D-8F76-45C2-A8FC-9DCEA0C063A8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6887-9385-4CB5-B592-A2FE1F4B853A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81A6-1E87-4289-92B1-6E10C1AD1460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4F34-B570-45C7-B835-10A63687682E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EB52-26E4-4739-9643-44A8D75D7142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0B56-7036-4ECF-AA9F-33FF638FDC23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A62-06B1-44E3-8693-6260A5840E6D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B8E-804C-4F20-930B-F213D40A21F0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9477-7FEC-49FB-BAA4-63D1BAB5CCC6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3DD7-95E6-4FDF-988A-184DE03BA8A1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B493-1884-4B50-9B83-04B0BD3D5FFB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例えば、「みかん」というお題が出たら、同様に後攻チームの全員が制限時間（４５秒）以内にだじゃれを言っ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＜回答例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アルミ缶の上にあるミカン」 （言葉を付け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未完成のみかん」 （同音異義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みかんが見っかんない」 （促音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このミカン、俺ん家（オレンチ）のだぜ」 （英語化＆同音異義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ミカンの賞味期限は三日以内」 （ちょっと苦しい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17A9-F3D4-4CD4-B857-A9091D2D5445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3259080" y="514440"/>
            <a:ext cx="3430800" cy="257184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95040" y="3257640"/>
            <a:ext cx="7956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スライド番号プレースホルダ 3"/>
          <p:cNvSpPr/>
          <p:nvPr/>
        </p:nvSpPr>
        <p:spPr>
          <a:xfrm>
            <a:off x="5634000" y="6513480"/>
            <a:ext cx="4310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4ACD-DD6F-47F2-9530-D7D39A0FA67A}" type="slidenum">
              <a:rPr b="0" lang="ja-JP" sz="1200" spc="-1" strike="noStrike">
                <a:solidFill>
                  <a:srgbClr val="000000"/>
                </a:solidFill>
                <a:latin typeface="Gill Sans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2E3-EDCD-4CEB-A032-650254DE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160-E92F-46BA-ABB8-1F9EE600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95F5A-2122-401B-BDA8-DDB7D46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EFCED-45C5-432A-BF4C-E312705B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D4C65-06BE-4AB6-9D97-CFB501FD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1320F-1360-4B9D-B10B-D57EA8D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D4B5-569A-41A2-B1F2-E01FA231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0E2B2-9B8D-482A-B2AF-B425A54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52843-3D71-430C-BE5B-006E4018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F75CC-612C-4709-9AE8-8D5FF3C3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EF2C6-F382-4027-BDD5-9B9DD61A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F6802-53A4-4BFE-A1F5-7EA558D40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E61-CA27-4929-AF5E-71D7B530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20585-B9C0-4B11-9569-D6BE8C2D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DD3A7-9E72-4A94-A39F-A5BCD7E0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312E2-7BE4-47A2-840D-D0109820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CD6EB-2961-4791-95ED-D4230E32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558060-F638-48D9-8945-BADD2FDA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6B263-280B-4947-88C7-9D360ED7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E3278-EBDB-4E4C-B3E8-0DFB0EE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8E8F5-23E8-445A-8715-908DDF477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6A034-1D6E-47D8-8820-2FBDDC35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8DFF-D11A-4CBE-9B97-8A44D9A2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B2EC-B35B-474B-9EE8-442C1F2E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01751-E000-46D3-9067-75A3F56E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0CD16-B8E2-473C-8CC4-830E7AD6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9B51C-BDE9-475B-AF08-AEE4538C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A58E4-F040-4E6F-B2CA-C0A3C76C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87571-4672-41B4-A49D-7F286BA1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09629-6F77-42A9-ADAA-47A8CC41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CAC60-14A6-4983-9E4C-E7CB6FA7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AB318-8A4B-4236-A696-EC0AA3AA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862B9-C92D-4D16-818C-0FC5FF7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70A1F-1CD5-489C-A18F-08C40AA4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4ED40D-02FF-4E13-A177-35D77B93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C6A07-E2AE-4DB3-B778-CC33F520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C0233-7E16-4E82-97DD-9082C0FC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85EED-F0AF-4D97-8BF9-CD2699CB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2E79B-A034-4E8D-B246-0125E66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F8C76-DC31-4C23-8532-5D163BD3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CE2DB-0868-4A12-B48A-8FF35FFA6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A1E72-2624-4005-ACDD-65BC01E2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8074-9C69-42DB-96F3-3EB5F5E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ED357-7107-4F7B-BC4C-89EF40C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AD724-8618-4821-A5F0-EE129E7B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5F0D6-3AC8-4BF9-95ED-E236A76A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5DEB9-18B6-4B9D-874C-7E408B0D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26092-9FAA-42EE-A286-79BD044D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B84AF-7D89-4EE2-9F5B-88478D35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BC-19BB-4C57-AF7D-60C1A5E6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9143-69DC-475A-ABE6-3B211611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17A-E066-40EE-B4DE-68351CF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CF88-609E-4212-B72A-38FA9B34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0C23-06A1-4DA5-BCBC-8B191AE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8656-79B9-40B3-A4AC-A6889385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527-5B94-4427-B9FC-5A9A7F32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A18F-DCB9-406E-8CF2-EBB23E2D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7634-9D8D-4140-9D58-8AE4C168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DB1B-2E40-4AAC-ABEA-F0085459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C347-BD43-400A-BB7A-A8BB3E03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E988-F4DC-4E50-AA89-55ECE84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4A3D-230C-4628-A2C3-854DA143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427B-7E80-4306-AE60-66532A51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21C3B-C8DF-4776-8A14-93E9C8A6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B7A95-89A4-40B6-884D-7A7CD077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519F-5398-45EA-8929-246FEDD2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389-7105-445F-B2A3-B2F50D97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C8DE4-B1C7-4E73-AE2F-7A46EC2A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CA6EA-A874-476D-9E50-71A26A53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9920-06EA-4178-AEB3-7B805CFC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3488-B6B4-4ECC-8CC7-A63B446E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A965-7637-49C0-B83A-CE7ACDF1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8015-146D-47B9-8761-087BBB66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615F2-910B-4207-887E-3D0297F8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B128-678C-4A5B-B0FB-89B70F47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18814-55E1-40C7-81E7-46E626F9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CFC23-6E46-4590-B98D-1C9743F2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6F2-1CFE-43F2-BBE3-9701040B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0B976-24C4-4D21-954C-BE5C4494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575A-69C3-4145-A71D-0152B56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A751-A07D-45AC-90A5-79154C19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BDB5A-DC29-43C3-8F12-59FE96A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6DCBB-35DF-49E1-83CD-44C610DD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E87D1-C716-4A81-AD9F-EB6E726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81DB7-851D-4D17-A20C-A7CE1D8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0ED6B-8CE8-48D7-A1D0-CA91B41C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7E6D-0DDB-4F3E-88F5-09F6698D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43942-879A-4C46-BF26-AD753F9B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1B9-E2F8-4CC9-A535-FDD2AA2B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242BB-A449-4437-ACDE-70496BB8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E2B96-D68B-4FAC-B1D4-FAB5BAF2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C4AA-841F-4561-AFAA-C7E9631D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FA52-A61B-48EA-9EC2-C46A0492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DF272-5D77-438D-9121-FBCA93D1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6362E-D965-4ED7-ACF9-A2DCAA65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1709F-1FA6-4159-8BA2-C9740690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13DAC-170E-4393-8ADD-9A55EF42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C0AD-846B-45D0-98FC-C2391DD3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6462E-EBB8-48D2-879B-DE856651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703-E763-4550-ACA8-5B919114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14EC6-B9C1-4772-86C4-78CCAD36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4029B-97C9-4E99-A000-55547147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0EDAD-51F4-46AA-AB9C-98483636F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CF86-07AF-4681-9F7C-81B8B582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9CC53-821D-443C-9EA0-DC29DF70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1842-BBAF-4379-9044-EE22103F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63D33-0A10-4829-8DB7-322D8FE3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3DEC9-B938-4AF3-97CC-A2962CCD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1936-9729-4208-B71F-F138CCE3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2E791-C7E9-4C57-B8EA-754E9A2C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C54-DD46-4CBA-B28B-66667CF6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27F9A-A32C-4635-97B6-FD5B5F8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8026E-AD60-4447-9687-C90CE1C7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DE52-C465-4AA5-BE6F-65536038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8F806-B945-4654-9960-06238DFB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CBCC3-B335-4F5D-AD24-C2349049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39B69-AA4B-4A96-AB4F-BAF7EA2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4B58E-7C87-4A8B-A1D8-A0E3AAD1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AC88F-C37B-4443-AC90-FAC32583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74FBD-34B4-4B05-8345-A22CAB8A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E377F-8F81-4FF7-8A75-CCA7046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D1F-E6BE-4808-A4A9-A21A655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892080" y="1153800"/>
            <a:ext cx="7359840" cy="107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4345-7EBE-48F7-957B-DAC2AEB1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3BC05-109D-4FF2-883F-7E51CDC4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4E4CD-F10C-4E5B-9067-CB3508B2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CB1F2-FFCC-4955-B585-2040BEE8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892080" y="3950280"/>
            <a:ext cx="735984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EFBF-8CF2-407A-A61D-A925A553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3440" y="353232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9208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3440" y="3950280"/>
            <a:ext cx="359136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2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8F025-F2F8-4A7D-A620-C22EBC8A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8040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868720" y="353232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89208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8040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868720" y="3950280"/>
            <a:ext cx="2369520" cy="38124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81000"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BE055-79DF-43D4-8233-C8E209F78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F8BE-3EE8-4839-97CB-DFFC09E4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788D8-A229-48AC-8634-A5CF84D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/>
          </a:bodyPr>
          <a:p>
            <a:pPr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809EC-F22B-40A9-A0AD-AD83BCF1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8057-ED97-4ED6-91B4-034124F4D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1404-D260-4D05-86E4-89C5E783A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B672-7E39-4950-B997-99CC662B2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2C0-D128-49B5-A6A9-5706C61C6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892080" y="3532320"/>
            <a:ext cx="7359840" cy="799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t">
            <a:normAutofit fontScale="27000"/>
          </a:bodyPr>
          <a:p>
            <a:pPr marL="82440" indent="-8244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1" marL="180000" indent="-687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2" marL="277200" indent="-547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3" marL="388080" indent="-5472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4" marL="498960" indent="-5472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5" marL="498960" indent="-5472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lvl="6" marL="498960" indent="-5472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892080" y="1153800"/>
            <a:ext cx="7359840" cy="2320920"/>
          </a:xfrm>
          <a:prstGeom prst="rect">
            <a:avLst/>
          </a:prstGeom>
          <a:noFill/>
          <a:ln w="0">
            <a:noFill/>
          </a:ln>
        </p:spPr>
        <p:txBody>
          <a:bodyPr lIns="34200" rIns="34200" tIns="34200" bIns="34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D78A-35C5-4613-8ECE-C073059E8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17B-E328-448C-AAA8-317644288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B6F3-A8B1-423F-A4EB-B84E00909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FAEE-10E3-43A4-95E6-46B7BD936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0008-DB20-4DC9-9701-6D70D03DA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A97D-BD0F-4393-BBEE-206711912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6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1240" indent="-2840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1560" indent="-22716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98760" indent="-22716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@Learning Create All 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0431-8DD7-4D17-917B-F0EA741BD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フッター プレースホルダー 1"/>
          <p:cNvSpPr/>
          <p:nvPr/>
        </p:nvSpPr>
        <p:spPr>
          <a:xfrm>
            <a:off x="20520" y="6356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Learning Create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All  Rights Reserved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06" name="Picture 5" descr="C:\Users\Hidechika\AppData\Local\Microsoft\Windows\Temporary Internet Files\Content.IE5\HL7K8KGH\MP900428014[1].jpg"/>
          <p:cNvPicPr/>
          <p:nvPr/>
        </p:nvPicPr>
        <p:blipFill>
          <a:blip r:embed="rId1"/>
          <a:stretch/>
        </p:blipFill>
        <p:spPr>
          <a:xfrm>
            <a:off x="-630360" y="0"/>
            <a:ext cx="10356840" cy="68850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1"/>
          <p:cNvSpPr/>
          <p:nvPr/>
        </p:nvSpPr>
        <p:spPr>
          <a:xfrm>
            <a:off x="971640" y="431640"/>
            <a:ext cx="756108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だじゃれＰＫ戦</a:t>
            </a: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4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おさかな編</a:t>
            </a:r>
            <a:endParaRPr b="0" lang="en-US" sz="144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55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さけ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69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71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HG丸ｺﾞｼｯｸM-PRO"/>
                <a:ea typeface="HG丸ｺﾞｼｯｸM-PRO"/>
              </a:rPr>
              <a:t>だじゃれＰＫ戦のルー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509" name="テキスト プレースホルダー 2"/>
          <p:cNvSpPr/>
          <p:nvPr/>
        </p:nvSpPr>
        <p:spPr>
          <a:xfrm>
            <a:off x="539640" y="1484280"/>
            <a:ext cx="79930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１．先攻・後攻チームに分かれる（各２～３名）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２．出されたお題に対して、先攻チーム全員がダジャレを放つ。</a:t>
            </a:r>
            <a:br>
              <a:rPr sz="2000"/>
            </a:b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      （順不同で計３ネタ、２名チームはどちらかが２回言う）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３．制限時間（４５秒）以内に全員が言えたらＰＫ成功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４．さらに時間内に４ネタ以上発した場合は、３ネタを超過</a:t>
            </a:r>
            <a:br>
              <a:rPr sz="2000"/>
            </a:b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      した分だけボーナスポイントとして加算。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５．２～４を計５回ずつ繰り返す。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６．ＰＫの成功数で勝敗を決定。</a:t>
            </a:r>
            <a:br>
              <a:rPr sz="2000"/>
            </a:br>
            <a:r>
              <a:rPr b="0" lang="ja-JP" sz="2000" spc="-1" strike="noStrike">
                <a:solidFill>
                  <a:srgbClr val="404040"/>
                </a:solidFill>
                <a:latin typeface="HG丸ｺﾞｼｯｸM-PRO"/>
                <a:ea typeface="HG丸ｺﾞｼｯｸM-PRO"/>
              </a:rPr>
              <a:t>      同点の場合は、ボーナスポイントの得点差で勝敗を決定。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0" name="フッター プレースホルダー 1"/>
          <p:cNvSpPr/>
          <p:nvPr/>
        </p:nvSpPr>
        <p:spPr>
          <a:xfrm>
            <a:off x="20520" y="6356520"/>
            <a:ext cx="332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一般社団法人「日本だじゃれ活用協会」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たい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85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87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ぶり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HG丸ｺﾞｼｯｸM-PRO"/>
                <a:ea typeface="HG丸ｺﾞｼｯｸM-PRO"/>
              </a:rPr>
              <a:t>ＰＫ戦・スコア表の記入方法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582480" y="2009880"/>
          <a:ext cx="7993080" cy="3579840"/>
        </p:xfrm>
        <a:graphic>
          <a:graphicData uri="http://schemas.openxmlformats.org/drawingml/2006/table">
            <a:tbl>
              <a:tblPr/>
              <a:tblGrid>
                <a:gridCol w="1729080"/>
                <a:gridCol w="1042920"/>
                <a:gridCol w="1044360"/>
                <a:gridCol w="1044720"/>
                <a:gridCol w="1044720"/>
                <a:gridCol w="1042920"/>
                <a:gridCol w="1044360"/>
              </a:tblGrid>
              <a:tr h="6310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１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２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３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４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５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9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先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</a:t>
                      </a:r>
                      <a:r>
                        <a:rPr b="0" lang="ja-JP" sz="16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昭和なでしこ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ボーナ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2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後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  </a:t>
                      </a:r>
                      <a:r>
                        <a:rPr b="0" lang="ja-JP" sz="16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賢ジャポ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  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ボーナ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100" spc="-1" strike="noStrike">
                          <a:solidFill>
                            <a:srgbClr val="ff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3" name="テキスト ボックス 4"/>
          <p:cNvSpPr/>
          <p:nvPr/>
        </p:nvSpPr>
        <p:spPr>
          <a:xfrm>
            <a:off x="2382840" y="297432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4" name="テキスト ボックス 5"/>
          <p:cNvSpPr/>
          <p:nvPr/>
        </p:nvSpPr>
        <p:spPr>
          <a:xfrm>
            <a:off x="2382840" y="43434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5" name="テキスト ボックス 6"/>
          <p:cNvSpPr/>
          <p:nvPr/>
        </p:nvSpPr>
        <p:spPr>
          <a:xfrm>
            <a:off x="2409840" y="390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２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6" name="テキスト ボックス 7"/>
          <p:cNvSpPr/>
          <p:nvPr/>
        </p:nvSpPr>
        <p:spPr>
          <a:xfrm>
            <a:off x="2382840" y="5205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０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7" name="テキスト ボックス 8"/>
          <p:cNvSpPr/>
          <p:nvPr/>
        </p:nvSpPr>
        <p:spPr>
          <a:xfrm>
            <a:off x="3419640" y="298764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8" name="テキスト ボックス 9"/>
          <p:cNvSpPr/>
          <p:nvPr/>
        </p:nvSpPr>
        <p:spPr>
          <a:xfrm>
            <a:off x="3419640" y="434340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9" name="テキスト ボックス 10"/>
          <p:cNvSpPr/>
          <p:nvPr/>
        </p:nvSpPr>
        <p:spPr>
          <a:xfrm>
            <a:off x="4495680" y="2987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0" name="テキスト ボックス 11"/>
          <p:cNvSpPr/>
          <p:nvPr/>
        </p:nvSpPr>
        <p:spPr>
          <a:xfrm>
            <a:off x="5508720" y="298764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1" name="テキスト ボックス 12"/>
          <p:cNvSpPr/>
          <p:nvPr/>
        </p:nvSpPr>
        <p:spPr>
          <a:xfrm>
            <a:off x="6588000" y="29743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2" name="テキスト ボックス 13"/>
          <p:cNvSpPr/>
          <p:nvPr/>
        </p:nvSpPr>
        <p:spPr>
          <a:xfrm>
            <a:off x="4491000" y="43426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3" name="テキスト ボックス 14"/>
          <p:cNvSpPr/>
          <p:nvPr/>
        </p:nvSpPr>
        <p:spPr>
          <a:xfrm>
            <a:off x="5518080" y="43426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4" name="テキスト ボックス 15"/>
          <p:cNvSpPr/>
          <p:nvPr/>
        </p:nvSpPr>
        <p:spPr>
          <a:xfrm>
            <a:off x="6588000" y="43434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○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5" name="テキスト ボックス 16"/>
          <p:cNvSpPr/>
          <p:nvPr/>
        </p:nvSpPr>
        <p:spPr>
          <a:xfrm>
            <a:off x="3419640" y="39042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１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6" name="テキスト ボックス 17"/>
          <p:cNvSpPr/>
          <p:nvPr/>
        </p:nvSpPr>
        <p:spPr>
          <a:xfrm>
            <a:off x="5508720" y="390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１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7" name="テキスト ボックス 18"/>
          <p:cNvSpPr/>
          <p:nvPr/>
        </p:nvSpPr>
        <p:spPr>
          <a:xfrm>
            <a:off x="4491000" y="390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０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8" name="テキスト ボックス 19"/>
          <p:cNvSpPr/>
          <p:nvPr/>
        </p:nvSpPr>
        <p:spPr>
          <a:xfrm>
            <a:off x="6585120" y="390420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０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9" name="テキスト ボックス 20"/>
          <p:cNvSpPr/>
          <p:nvPr/>
        </p:nvSpPr>
        <p:spPr>
          <a:xfrm>
            <a:off x="6585120" y="52390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３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0" name="テキスト ボックス 21"/>
          <p:cNvSpPr/>
          <p:nvPr/>
        </p:nvSpPr>
        <p:spPr>
          <a:xfrm>
            <a:off x="5508720" y="5239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１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1" name="テキスト ボックス 22"/>
          <p:cNvSpPr/>
          <p:nvPr/>
        </p:nvSpPr>
        <p:spPr>
          <a:xfrm>
            <a:off x="4491000" y="52390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０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2" name="テキスト ボックス 23"/>
          <p:cNvSpPr/>
          <p:nvPr/>
        </p:nvSpPr>
        <p:spPr>
          <a:xfrm>
            <a:off x="3419640" y="52390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１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3" name="テキスト ボックス 24"/>
          <p:cNvSpPr/>
          <p:nvPr/>
        </p:nvSpPr>
        <p:spPr>
          <a:xfrm>
            <a:off x="7596360" y="297432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３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4" name="テキスト ボックス 25"/>
          <p:cNvSpPr/>
          <p:nvPr/>
        </p:nvSpPr>
        <p:spPr>
          <a:xfrm>
            <a:off x="7596360" y="390420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４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5" name="テキスト ボックス 26"/>
          <p:cNvSpPr/>
          <p:nvPr/>
        </p:nvSpPr>
        <p:spPr>
          <a:xfrm>
            <a:off x="7596360" y="434268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３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6" name="テキスト ボックス 27"/>
          <p:cNvSpPr/>
          <p:nvPr/>
        </p:nvSpPr>
        <p:spPr>
          <a:xfrm>
            <a:off x="7596360" y="52390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＋５</a:t>
            </a:r>
            <a:endParaRPr b="0" lang="en-US" sz="1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7" name="爆発 1 1"/>
          <p:cNvSpPr/>
          <p:nvPr/>
        </p:nvSpPr>
        <p:spPr>
          <a:xfrm>
            <a:off x="6645240" y="5342040"/>
            <a:ext cx="2556000" cy="1557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cc"/>
                </a:solidFill>
                <a:latin typeface="HGP創英角ｺﾞｼｯｸUB"/>
                <a:ea typeface="HGP創英角ｺﾞｼｯｸUB"/>
              </a:rPr>
              <a:t>ＷＩＮ！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8" name="フッター プレースホルダー 1"/>
          <p:cNvSpPr/>
          <p:nvPr/>
        </p:nvSpPr>
        <p:spPr>
          <a:xfrm>
            <a:off x="20520" y="6356520"/>
            <a:ext cx="332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一般社団法人「日本だじゃれ活用協会」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01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２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03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あじ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9360"/>
            <a:ext cx="822960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だじゃれＰＫ戦・スコア</a:t>
            </a: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―</a:t>
            </a:r>
            <a:r>
              <a:rPr b="0" lang="ja-JP" sz="3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</a:t>
            </a:r>
            <a:endParaRPr b="0" lang="en-US" sz="3600" spc="-1" strike="noStrike">
              <a:solidFill>
                <a:srgbClr val="996600"/>
              </a:solidFill>
              <a:latin typeface="Impact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539640" y="2009880"/>
          <a:ext cx="7993080" cy="3579840"/>
        </p:xfrm>
        <a:graphic>
          <a:graphicData uri="http://schemas.openxmlformats.org/drawingml/2006/table">
            <a:tbl>
              <a:tblPr/>
              <a:tblGrid>
                <a:gridCol w="1728720"/>
                <a:gridCol w="1043280"/>
                <a:gridCol w="1044360"/>
                <a:gridCol w="1044720"/>
                <a:gridCol w="1044360"/>
                <a:gridCol w="1043280"/>
                <a:gridCol w="1044360"/>
              </a:tblGrid>
              <a:tr h="85788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１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２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３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４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５本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先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                   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ボーナ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後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（                   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ボーナ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HG丸ｺﾞｼｯｸM-PRO"/>
                          <a:ea typeface="HG丸ｺﾞｼｯｸM-PRO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Impact"/>
                      </a:endParaRPr>
                    </a:p>
                  </a:txBody>
                  <a:tcPr anchor="ctr" marL="8640" marR="86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フッター プレースホルダー 1"/>
          <p:cNvSpPr/>
          <p:nvPr/>
        </p:nvSpPr>
        <p:spPr>
          <a:xfrm>
            <a:off x="20520" y="6356520"/>
            <a:ext cx="332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Copyright @</a:t>
            </a:r>
            <a:r>
              <a:rPr b="0" lang="ja-JP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一般社団法人「日本だじゃれ活用協会」</a:t>
            </a:r>
            <a:endParaRPr b="0" lang="en-US" sz="1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17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19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ひらめ</a:t>
            </a:r>
            <a:endParaRPr b="0" lang="en-US" sz="17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0d0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"/>
          <p:cNvSpPr/>
          <p:nvPr/>
        </p:nvSpPr>
        <p:spPr>
          <a:xfrm>
            <a:off x="0" y="1773360"/>
            <a:ext cx="914400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1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サンプル</a:t>
            </a:r>
            <a:r>
              <a:rPr b="0" lang="en-US" sz="12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1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33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３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35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かれい</a:t>
            </a:r>
            <a:endParaRPr b="0" lang="en-US" sz="17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49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51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本目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ンプル</a:t>
            </a:r>
            <a:r>
              <a:rPr b="0" lang="en-US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45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たら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6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65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４本目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67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さば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8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もも</a:t>
            </a:r>
            <a:endParaRPr b="0" lang="en-US" sz="20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サンプル</a:t>
            </a: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81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先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５本目！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83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さんま</a:t>
            </a:r>
            <a:endParaRPr b="0" lang="en-US" sz="17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１本目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9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ンプル</a:t>
            </a:r>
            <a:r>
              <a:rPr b="0" lang="en-US" sz="6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550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97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1"/>
          <p:cNvSpPr/>
          <p:nvPr/>
        </p:nvSpPr>
        <p:spPr>
          <a:xfrm>
            <a:off x="593640" y="1989000"/>
            <a:ext cx="7864560" cy="20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後攻チーム</a:t>
            </a:r>
            <a:br>
              <a:rPr sz="8800"/>
            </a:br>
            <a:r>
              <a:rPr b="0" lang="ja-JP" sz="8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５本目！！</a:t>
            </a: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699" name="Picture 7" descr="C:\Users\Hidechika\AppData\Local\Microsoft\Windows\Temporary Internet Files\Content.IE5\TUISUHZG\MC900429123[1].wmf"/>
          <p:cNvPicPr/>
          <p:nvPr/>
        </p:nvPicPr>
        <p:blipFill>
          <a:blip r:embed="rId1"/>
          <a:stretch/>
        </p:blipFill>
        <p:spPr>
          <a:xfrm>
            <a:off x="3641760" y="5345280"/>
            <a:ext cx="1768320" cy="12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まぐろ</a:t>
            </a:r>
            <a:endParaRPr b="0" lang="en-US" sz="173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⑤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④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4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③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6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②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08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①</a:t>
            </a:r>
            <a:endParaRPr b="0" lang="en-US" sz="25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0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3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みかん</a:t>
            </a:r>
            <a:endParaRPr b="0" lang="en-US" sz="173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【</a:t>
            </a:r>
            <a:r>
              <a:rPr b="0" lang="ja-JP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サンプル</a:t>
            </a:r>
            <a:r>
              <a:rPr b="0" lang="en-US" sz="60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1"/>
          <p:cNvSpPr/>
          <p:nvPr/>
        </p:nvSpPr>
        <p:spPr>
          <a:xfrm>
            <a:off x="593640" y="2114640"/>
            <a:ext cx="786456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2" name="Rectangle 1"/>
          <p:cNvSpPr/>
          <p:nvPr/>
        </p:nvSpPr>
        <p:spPr>
          <a:xfrm>
            <a:off x="14400" y="0"/>
            <a:ext cx="570996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713" name="Picture 5" descr="C:\Users\Hidechika\AppData\Local\Microsoft\Windows\Temporary Internet Files\Content.IE5\TUISUHZG\MP900424346[1]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14:27:12Z</dcterms:created>
  <dc:creator>Hidechika</dc:creator>
  <dc:description/>
  <dc:language>en-US</dc:language>
  <cp:lastModifiedBy>Hidechika</cp:lastModifiedBy>
  <cp:lastPrinted>2014-02-20T13:38:33Z</cp:lastPrinted>
  <dcterms:modified xsi:type="dcterms:W3CDTF">2014-09-02T08:51:46Z</dcterms:modified>
  <cp:revision>164</cp:revision>
  <dc:subject/>
  <dc:title>スライド 1</dc:title>
</cp:coreProperties>
</file>